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9280" y="2920680"/>
            <a:ext cx="10845720" cy="24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79280" y="5359320"/>
            <a:ext cx="10845720" cy="137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marL="957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1" marL="95760" indent="-95760" algn="ctr">
              <a:buClr>
                <a:srgbClr val="7e8484"/>
              </a:buClr>
              <a:buFont typeface="American Typewrite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2" marL="95760" indent="-95760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3" marL="95760" indent="-95760" algn="ctr">
              <a:buClr>
                <a:srgbClr val="7e8484"/>
              </a:buClr>
              <a:buFont typeface="American Typewrite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4" marL="95760" indent="-95760" algn="ctr">
              <a:buClr>
                <a:srgbClr val="7e8484"/>
              </a:buClr>
              <a:buFont typeface="American Typewrite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5" marL="95760" indent="-95760" algn="ctr">
              <a:buClr>
                <a:srgbClr val="ffffff"/>
              </a:buClr>
              <a:buFont typeface="American Typewrite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6" marL="95760" indent="-95760" algn="ctr">
              <a:buClr>
                <a:srgbClr val="ffffff"/>
              </a:buClr>
              <a:buFont typeface="American Typewrite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mnpstube.mnps.org/watch_video.php?v=2f5be3b98983e68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mnpstube.mnps.org/watch_video.php?v=f58c0bb28f37be9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15920" y="1828800"/>
            <a:ext cx="11055600" cy="209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merican Typewriter"/>
              </a:rPr>
              <a:t>Communication &amp; Collaboration</a:t>
            </a:r>
            <a:endParaRPr b="0" lang="en-US" sz="6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625760" y="5257800"/>
            <a:ext cx="99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Margie Johnson,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MNPS Technology Integration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8360" y="685440"/>
            <a:ext cx="11658600" cy="136692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959"/>
                </a:solidFill>
                <a:latin typeface="Arial Narrow Bold"/>
                <a:ea typeface="Arial Narrow Bold"/>
              </a:rPr>
              <a:t>Flip Camera Reflections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3581280"/>
            <a:ext cx="13004640" cy="426744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Walk around and socialize with colleagues until the music stops.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381560" y="7510320"/>
            <a:ext cx="4216320" cy="13226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4" name="05 Ain't Nothing Like the Real Thing.mp3" descr=""/>
          <p:cNvPicPr/>
          <p:nvPr/>
        </p:nvPicPr>
        <p:blipFill>
          <a:blip r:embed="rId2"/>
          <a:stretch/>
        </p:blipFill>
        <p:spPr>
          <a:xfrm>
            <a:off x="10769760" y="77724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837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863640"/>
            <a:ext cx="10845720" cy="4508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7ccfc"/>
                </a:solidFill>
                <a:latin typeface="Arial Narrow Bold"/>
                <a:ea typeface="Arial Narrow Bold"/>
              </a:rPr>
              <a:t>Whose blog do you read or would be interested in reading?  Why?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381560" y="7624800"/>
            <a:ext cx="4216320" cy="13222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9600" y="685440"/>
            <a:ext cx="11048760" cy="136692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959"/>
                </a:solidFill>
                <a:latin typeface="Arial Narrow Bold"/>
                <a:ea typeface="Arial Narrow Bold"/>
              </a:rPr>
              <a:t>Flip Camera Reflections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3581280"/>
            <a:ext cx="13004640" cy="426744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Walk around and socialize with colleagues until the music stops.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381560" y="7510320"/>
            <a:ext cx="4216320" cy="13226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10" name="08 Ain't No Mountain High Enough.mp3" descr=""/>
          <p:cNvPicPr/>
          <p:nvPr/>
        </p:nvPicPr>
        <p:blipFill>
          <a:blip r:embed="rId2"/>
          <a:stretch/>
        </p:blipFill>
        <p:spPr>
          <a:xfrm>
            <a:off x="10541160" y="7543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975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1625400"/>
            <a:ext cx="11849040" cy="3174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959"/>
                </a:solidFill>
                <a:latin typeface="Arial Narrow Bold"/>
                <a:ea typeface="Arial Narrow Bold"/>
              </a:rPr>
              <a:t>What collaboration tools do you use and how?</a:t>
            </a:r>
            <a:endParaRPr b="0" lang="en-US" sz="64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381560" y="7167600"/>
            <a:ext cx="4216320" cy="13222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11277360" cy="136692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959"/>
                </a:solidFill>
                <a:latin typeface="Arial Narrow Bold"/>
                <a:ea typeface="Arial Narrow Bold"/>
              </a:rPr>
              <a:t>Flip Camera Reflections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3581280"/>
            <a:ext cx="13004640" cy="426744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Please return to your seat.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381560" y="7510320"/>
            <a:ext cx="4216320" cy="13226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15920" y="380520"/>
            <a:ext cx="11049120" cy="136692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Arial Narrow Bold"/>
                <a:ea typeface="Arial Narrow Bold"/>
                <a:hlinkClick r:id="rId1"/>
              </a:rPr>
              <a:t>Flip Camera Reflections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2209680"/>
            <a:ext cx="13004640" cy="563904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4368960" y="8229600"/>
            <a:ext cx="4216320" cy="13222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19" name="Rectangle 4"/>
          <p:cNvSpPr/>
          <p:nvPr/>
        </p:nvSpPr>
        <p:spPr>
          <a:xfrm>
            <a:off x="482760" y="2209680"/>
            <a:ext cx="6502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cd4d"/>
                </a:solidFill>
                <a:latin typeface="Arial Narrow Bold"/>
                <a:ea typeface="Arial Narrow Bold"/>
              </a:rPr>
              <a:t>If someone “googled” you, what are two things they would learn about you?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82760" y="5324400"/>
            <a:ext cx="5638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a531"/>
                </a:solidFill>
                <a:latin typeface="Arial Narrow Bold"/>
                <a:ea typeface="Arial Narrow Bold"/>
              </a:rPr>
              <a:t>What communication tools do you use and how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7112160" y="2514600"/>
            <a:ext cx="558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ccfc"/>
                </a:solidFill>
                <a:latin typeface="Arial Narrow Bold"/>
                <a:ea typeface="Arial Narrow Bold"/>
              </a:rPr>
              <a:t>Whose blog do you read or would like to read?  Why?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188120" y="4800600"/>
            <a:ext cx="5359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59"/>
                </a:solidFill>
                <a:latin typeface="Arial Narrow Bold"/>
                <a:ea typeface="Arial Narrow Bold"/>
              </a:rPr>
              <a:t>What communication and collaboration tools do you use and how?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082600" y="276840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8080" indent="-5713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8080" indent="-5713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To organize the world's information and make it universally accessible and useful.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58920" y="609480"/>
            <a:ext cx="891540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arking Lo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9" name="Picture 4" descr="C:\Documents and Settings\mljohnson\Local Settings\Temporary Internet Files\Content.IE5\TJKZ8OUT\MPj03904420000[1].jpg"/>
          <p:cNvPicPr/>
          <p:nvPr/>
        </p:nvPicPr>
        <p:blipFill>
          <a:blip r:embed="rId1"/>
          <a:stretch/>
        </p:blipFill>
        <p:spPr>
          <a:xfrm>
            <a:off x="2006640" y="2514600"/>
            <a:ext cx="9296280" cy="66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etting Norm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06440" y="2742840"/>
            <a:ext cx="56894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reating guidelines or norms for group behavior makes collaboration and group meetings more effective.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2" name="Picture 7" descr="C:\Documents and Settings\mljohnson\Local Settings\Temporary Internet Files\Content.IE5\TJKZ8OUT\MPj04434640000[1].jpg"/>
          <p:cNvPicPr/>
          <p:nvPr/>
        </p:nvPicPr>
        <p:blipFill>
          <a:blip r:embed="rId1"/>
          <a:stretch/>
        </p:blipFill>
        <p:spPr>
          <a:xfrm>
            <a:off x="6578640" y="3780000"/>
            <a:ext cx="5470560" cy="36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356000" y="182520"/>
            <a:ext cx="4216680" cy="13222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393840" y="2306520"/>
            <a:ext cx="12139560" cy="326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</p:pic>
      <p:sp>
        <p:nvSpPr>
          <p:cNvPr id="85" name="Rectangle 3"/>
          <p:cNvSpPr/>
          <p:nvPr/>
        </p:nvSpPr>
        <p:spPr>
          <a:xfrm>
            <a:off x="304920" y="5957280"/>
            <a:ext cx="12217320" cy="292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4ddfd"/>
                </a:solidFill>
                <a:latin typeface="Gill Sans"/>
                <a:ea typeface="Gill Sans"/>
              </a:rPr>
              <a:t>Flip Camera Reflections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12192120" cy="136692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959"/>
                </a:solidFill>
                <a:latin typeface="Arial Narrow Bold"/>
                <a:ea typeface="Arial Narrow Bold"/>
              </a:rPr>
              <a:t>Flip Camera Reflections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40" y="2540160"/>
            <a:ext cx="13005000" cy="467352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When the music begins, walk around the room and socialize with colleagues.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When the music stops, discuss the prompt with the person beside to you. 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Record your partner’s reflection 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and allow them to record your reflections.   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381560" y="7790040"/>
            <a:ext cx="4216320" cy="13222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4680" y="685440"/>
            <a:ext cx="11582280" cy="136692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959"/>
                </a:solidFill>
                <a:latin typeface="Arial Narrow Bold"/>
                <a:ea typeface="Arial Narrow Bold"/>
              </a:rPr>
              <a:t>Flip Camera Reflections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3581280"/>
            <a:ext cx="13004640" cy="426744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Walk around and socialize with colleagues until the music stops.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381560" y="7510320"/>
            <a:ext cx="4216320" cy="13226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2" name="01 I Heard It Through the Grapevine.mp3" descr=""/>
          <p:cNvPicPr/>
          <p:nvPr/>
        </p:nvPicPr>
        <p:blipFill>
          <a:blip r:embed="rId2"/>
          <a:stretch/>
        </p:blipFill>
        <p:spPr>
          <a:xfrm>
            <a:off x="10159920" y="76201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32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1880" y="1219320"/>
            <a:ext cx="10845720" cy="5067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6cd4d"/>
                </a:solidFill>
                <a:latin typeface="Arial Narrow Bold"/>
                <a:ea typeface="Arial Narrow Bold"/>
              </a:rPr>
              <a:t>If someone “googled” you, what are two things they would learn about you?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280040" y="7408800"/>
            <a:ext cx="4216320" cy="13222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11277360" cy="136692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959"/>
                </a:solidFill>
                <a:latin typeface="Arial Narrow Bold"/>
                <a:ea typeface="Arial Narrow Bold"/>
              </a:rPr>
              <a:t>Flip Camera Reflections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3581280"/>
            <a:ext cx="13004640" cy="426744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 Narrow Bold"/>
                <a:ea typeface="Arial Narrow Bold"/>
              </a:rPr>
              <a:t>Walk around and socialize with colleagues until the music stops.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381560" y="7510320"/>
            <a:ext cx="4216320" cy="132264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8" name="03 Signed, Sealed, Delivered, I'm Yours.mp3" descr=""/>
          <p:cNvPicPr/>
          <p:nvPr/>
        </p:nvPicPr>
        <p:blipFill>
          <a:blip r:embed="rId2"/>
          <a:stretch/>
        </p:blipFill>
        <p:spPr>
          <a:xfrm>
            <a:off x="10693440" y="7467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680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9600" y="1676160"/>
            <a:ext cx="10845720" cy="43434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da531"/>
                </a:solidFill>
                <a:latin typeface="Arial Narrow Bold"/>
                <a:ea typeface="Arial Narrow Bold"/>
              </a:rPr>
              <a:t>What communication tools do you use and with whom?</a:t>
            </a:r>
            <a:endParaRPr b="0" lang="en-US" sz="72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381560" y="7535880"/>
            <a:ext cx="4216320" cy="13222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NPS User</cp:lastModifiedBy>
  <dcterms:modified xsi:type="dcterms:W3CDTF">2010-05-25T18:31:56Z</dcterms:modified>
  <cp:revision>75</cp:revision>
  <dc:subject/>
  <dc:title>Slide 1</dc:title>
</cp:coreProperties>
</file>